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8.gif" ContentType="image/gif"/>
  <Override PartName="/ppt/media/image52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33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40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39.wmf" ContentType="image/x-wmf"/>
  <Override PartName="/ppt/media/image9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5.wmf" ContentType="image/x-wmf"/>
  <Override PartName="/ppt/media/image73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15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23.wmf" ContentType="image/x-wmf"/>
  <Override PartName="/ppt/media/image11.jpeg" ContentType="image/jpeg"/>
  <Override PartName="/ppt/media/image87.jpeg" ContentType="image/jpeg"/>
  <Override PartName="/ppt/media/image27.wmf" ContentType="image/x-wmf"/>
  <Override PartName="/ppt/media/image12.wmf" ContentType="image/x-wmf"/>
  <Override PartName="/ppt/media/image49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6.wmf" ContentType="image/x-wmf"/>
  <Override PartName="/ppt/media/image18.wmf" ContentType="image/x-wmf"/>
  <Override PartName="/ppt/media/image30.jpeg" ContentType="image/jpeg"/>
  <Override PartName="/ppt/media/image8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F91-A6CC-4050-86AF-D84CCC65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3CB-9A43-48B3-B922-4DC639A4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B5A-5917-43FB-ABE3-18786347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961-A4AD-4178-8CA2-C4CEF9AE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105-AF02-41E3-B39F-BB9A3682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F03-9B8F-4FC9-89E0-989BBAC0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A19-EBF8-4397-81C7-C9830B42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C3B-E409-489D-91A4-E5192FD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56C-1E04-4934-B6AC-AF26972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27C-1EED-464D-84E7-E59FF9B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3B7-B5CF-4FCC-B576-4A21779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C3E-5565-4AB8-8C62-0E621DE1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D7D-361B-4FB3-AE62-3F80B3A6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7498-F819-435C-AC93-5CEBBC42E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" Target="slide4.xml"/><Relationship Id="rId5" Type="http://schemas.openxmlformats.org/officeDocument/2006/relationships/image" Target="../media/image29.wmf"/><Relationship Id="rId6" Type="http://schemas.openxmlformats.org/officeDocument/2006/relationships/slide" Target="slide3.xml"/><Relationship Id="rId7" Type="http://schemas.openxmlformats.org/officeDocument/2006/relationships/image" Target="../media/image30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jpeg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2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5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7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6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image" Target="../media/image62.wmf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image" Target="../media/image62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7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3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6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8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0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29.wmf"/><Relationship Id="rId5" Type="http://schemas.openxmlformats.org/officeDocument/2006/relationships/slide" Target="slide3.xml"/><Relationship Id="rId6" Type="http://schemas.openxmlformats.org/officeDocument/2006/relationships/image" Target="../media/image30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82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9.xml"/><Relationship Id="rId3" Type="http://schemas.openxmlformats.org/officeDocument/2006/relationships/image" Target="../media/image29.wmf"/><Relationship Id="rId4" Type="http://schemas.openxmlformats.org/officeDocument/2006/relationships/slide" Target="slide3.xml"/><Relationship Id="rId5" Type="http://schemas.openxmlformats.org/officeDocument/2006/relationships/image" Target="../media/image30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3.xml"/><Relationship Id="rId3" Type="http://schemas.openxmlformats.org/officeDocument/2006/relationships/image" Target="../media/image30.jpeg"/><Relationship Id="rId4" Type="http://schemas.openxmlformats.org/officeDocument/2006/relationships/slide" Target="slide3.xml"/><Relationship Id="rId5" Type="http://schemas.openxmlformats.org/officeDocument/2006/relationships/image" Target="../media/image3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0.jpeg"/><Relationship Id="rId3" Type="http://schemas.openxmlformats.org/officeDocument/2006/relationships/image" Target="../media/image2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3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62.wmf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105520"/>
            <a:ext cx="51055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&amp; Cut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 and help/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8120" y="2400480"/>
          <a:ext cx="5333760" cy="22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400480"/>
                    <a:ext cx="53337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1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7724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 txBox="1"/>
            <p:nvPr/>
          </p:nvSpPr>
          <p:spPr>
            <a:xfrm>
              <a:off x="78487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5" name="">
              <a:hlinkClick r:id="" action="ppaction://hlinkshowjump?jump=previous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1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76320" y="2743200"/>
          <a:ext cx="2743200" cy="141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43200"/>
                    <a:ext cx="274320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32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4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4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2895480" y="2816280"/>
          <a:ext cx="5562720" cy="14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816280"/>
                    <a:ext cx="556272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6320" y="2852640"/>
          <a:ext cx="2590560" cy="13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52640"/>
                    <a:ext cx="25905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6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371600" y="1752480"/>
          <a:ext cx="6472080" cy="334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1752480"/>
                    <a:ext cx="647208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7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154320" y="2362320"/>
          <a:ext cx="5197680" cy="220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4320" y="2362320"/>
                    <a:ext cx="51976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76320" y="2814480"/>
          <a:ext cx="2666880" cy="137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14480"/>
                    <a:ext cx="266688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9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676520" y="1600200"/>
          <a:ext cx="5790960" cy="380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1600200"/>
                    <a:ext cx="5790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0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0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1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2" name=""/>
          <p:cNvGraphicFramePr/>
          <p:nvPr/>
        </p:nvGraphicFramePr>
        <p:xfrm>
          <a:off x="3124080" y="2884320"/>
          <a:ext cx="533412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24080" y="2884320"/>
                    <a:ext cx="53341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320" y="2386080"/>
          <a:ext cx="2743200" cy="180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86080"/>
                    <a:ext cx="274320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66680" y="1797120"/>
          <a:ext cx="7010640" cy="341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797120"/>
                    <a:ext cx="70106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5130720" y="2800440"/>
          <a:ext cx="9907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30720" y="2800440"/>
                    <a:ext cx="9907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6320" y="2854440"/>
          <a:ext cx="2743200" cy="133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54440"/>
                    <a:ext cx="274320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5092_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36467" descr=""/>
          <p:cNvPicPr/>
          <p:nvPr/>
        </p:nvPicPr>
        <p:blipFill>
          <a:blip r:embed="rId4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9" name="BD05091_" descr=""/>
          <p:cNvPicPr/>
          <p:nvPr/>
        </p:nvPicPr>
        <p:blipFill>
          <a:blip r:embed="rId5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j0182990" descr=""/>
          <p:cNvPicPr/>
          <p:nvPr/>
        </p:nvPicPr>
        <p:blipFill>
          <a:blip r:embed="rId6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19720" y="3047760"/>
            <a:ext cx="44193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Algebra Par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Slopes &amp; L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30271" descr=""/>
          <p:cNvPicPr/>
          <p:nvPr/>
        </p:nvPicPr>
        <p:blipFill>
          <a:blip r:embed="rId7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59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7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7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5" name=""/>
          <p:cNvGraphicFramePr/>
          <p:nvPr/>
        </p:nvGraphicFramePr>
        <p:xfrm>
          <a:off x="3665520" y="2666880"/>
          <a:ext cx="4075200" cy="154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65520" y="2666880"/>
                    <a:ext cx="40752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76320" y="2665440"/>
          <a:ext cx="2590560" cy="15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665440"/>
                    <a:ext cx="25905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8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0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3809880" y="1865160"/>
          <a:ext cx="3632400" cy="341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1865160"/>
                    <a:ext cx="36324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76320" y="2576520"/>
          <a:ext cx="2743200" cy="16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76520"/>
                    <a:ext cx="27432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2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3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5" name=""/>
          <p:cNvGraphicFramePr/>
          <p:nvPr/>
        </p:nvGraphicFramePr>
        <p:xfrm>
          <a:off x="3863880" y="1865160"/>
          <a:ext cx="3522600" cy="341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3880" y="1865160"/>
                    <a:ext cx="35226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76320" y="3067200"/>
          <a:ext cx="2819160" cy="11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67200"/>
                    <a:ext cx="28191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4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5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6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3919680" y="2800440"/>
          <a:ext cx="341136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19680" y="2800440"/>
                    <a:ext cx="3411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76320" y="3067200"/>
          <a:ext cx="2819160" cy="11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67200"/>
                    <a:ext cx="28191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003320" y="2075040"/>
          <a:ext cx="721368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3320" y="2075040"/>
                    <a:ext cx="7213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8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3" name=""/>
          <p:cNvGraphicFramePr/>
          <p:nvPr/>
        </p:nvGraphicFramePr>
        <p:xfrm>
          <a:off x="3581280" y="1828800"/>
          <a:ext cx="3962520" cy="359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1280" y="1828800"/>
                    <a:ext cx="39625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76320" y="3097080"/>
          <a:ext cx="2743200" cy="1094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97080"/>
                    <a:ext cx="27432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p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y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t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HH01298_" descr=""/>
          <p:cNvPicPr/>
          <p:nvPr/>
        </p:nvPicPr>
        <p:blipFill>
          <a:blip r:embed="rId38"/>
          <a:stretch/>
        </p:blipFill>
        <p:spPr>
          <a:xfrm>
            <a:off x="8228160" y="228600"/>
            <a:ext cx="6444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j0104750" descr=""/>
          <p:cNvPicPr/>
          <p:nvPr/>
        </p:nvPicPr>
        <p:blipFill>
          <a:blip r:embed="rId39"/>
          <a:stretch/>
        </p:blipFill>
        <p:spPr>
          <a:xfrm>
            <a:off x="7543800" y="457200"/>
            <a:ext cx="676440" cy="36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507" name=""/>
          <p:cNvGraphicFramePr/>
          <p:nvPr/>
        </p:nvGraphicFramePr>
        <p:xfrm>
          <a:off x="2438280" y="2362320"/>
          <a:ext cx="4264200" cy="208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362320"/>
                    <a:ext cx="42642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1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1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2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2" name=""/>
          <p:cNvGraphicFramePr/>
          <p:nvPr/>
        </p:nvGraphicFramePr>
        <p:xfrm>
          <a:off x="4084560" y="2854440"/>
          <a:ext cx="308124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84560" y="2854440"/>
                    <a:ext cx="30812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6320" y="2849400"/>
          <a:ext cx="2743200" cy="134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49400"/>
                    <a:ext cx="27432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3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8560" y="2438280"/>
          <a:ext cx="554364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8560" y="2438280"/>
                    <a:ext cx="554364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4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4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76320" y="3235320"/>
          <a:ext cx="2743200" cy="95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235320"/>
                    <a:ext cx="27432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6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2282760" y="2438280"/>
          <a:ext cx="457380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2760" y="2438280"/>
                    <a:ext cx="45738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7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7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8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1" name=""/>
          <p:cNvGraphicFramePr/>
          <p:nvPr/>
        </p:nvGraphicFramePr>
        <p:xfrm>
          <a:off x="3863880" y="2854440"/>
          <a:ext cx="3522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63880" y="2854440"/>
                    <a:ext cx="3522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76320" y="3000240"/>
          <a:ext cx="2819160" cy="119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00240"/>
                    <a:ext cx="28191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9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1752480"/>
          <a:ext cx="651168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1752480"/>
                    <a:ext cx="651168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8" name=""/>
          <p:cNvGrpSpPr/>
          <p:nvPr/>
        </p:nvGrpSpPr>
        <p:grpSpPr>
          <a:xfrm>
            <a:off x="2895480" y="3657600"/>
            <a:ext cx="4181400" cy="2233440"/>
            <a:chOff x="2895480" y="3657600"/>
            <a:chExt cx="4181400" cy="2233440"/>
          </a:xfrm>
        </p:grpSpPr>
        <p:pic>
          <p:nvPicPr>
            <p:cNvPr id="599" name="" descr=""/>
            <p:cNvPicPr/>
            <p:nvPr/>
          </p:nvPicPr>
          <p:blipFill>
            <a:blip r:embed="rId9"/>
            <a:stretch/>
          </p:blipFill>
          <p:spPr>
            <a:xfrm>
              <a:off x="365760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 txBox="1"/>
            <p:nvPr/>
          </p:nvSpPr>
          <p:spPr>
            <a:xfrm>
              <a:off x="289548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0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1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1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3700440" y="2800440"/>
          <a:ext cx="38512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800440"/>
                    <a:ext cx="38512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76320" y="3355920"/>
          <a:ext cx="2819160" cy="83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355920"/>
                    <a:ext cx="28191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2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952640" y="2362320"/>
          <a:ext cx="5234040" cy="208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2640" y="2362320"/>
                    <a:ext cx="52340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3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4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4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3" name=""/>
          <p:cNvGraphicFramePr/>
          <p:nvPr/>
        </p:nvGraphicFramePr>
        <p:xfrm>
          <a:off x="3700440" y="2854440"/>
          <a:ext cx="385128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854440"/>
                    <a:ext cx="3851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76320" y="3098880"/>
          <a:ext cx="2743200" cy="109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98880"/>
                    <a:ext cx="27432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lope &amp; Y-intercep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19320"/>
          <a:ext cx="624348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2434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52480" y="2819520"/>
          <a:ext cx="2035440" cy="375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819520"/>
                    <a:ext cx="203544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648320" y="2895480"/>
          <a:ext cx="4051080" cy="314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2895480"/>
                    <a:ext cx="40510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" y="2514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5812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962520" y="4190760"/>
            <a:ext cx="6094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5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657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6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6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2" name=""/>
          <p:cNvGraphicFramePr/>
          <p:nvPr/>
        </p:nvGraphicFramePr>
        <p:xfrm>
          <a:off x="76320" y="2930400"/>
          <a:ext cx="2743200" cy="126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2930400"/>
                    <a:ext cx="274320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4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675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7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V="1">
            <a:off x="5638680" y="1981080"/>
            <a:ext cx="1143000" cy="3657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057400" y="160020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60020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3" name=""/>
          <p:cNvGrpSpPr/>
          <p:nvPr/>
        </p:nvGrpSpPr>
        <p:grpSpPr>
          <a:xfrm>
            <a:off x="2895480" y="3886200"/>
            <a:ext cx="4181400" cy="2233440"/>
            <a:chOff x="2895480" y="3886200"/>
            <a:chExt cx="4181400" cy="2233440"/>
          </a:xfrm>
        </p:grpSpPr>
        <p:pic>
          <p:nvPicPr>
            <p:cNvPr id="694" name="" descr=""/>
            <p:cNvPicPr/>
            <p:nvPr/>
          </p:nvPicPr>
          <p:blipFill>
            <a:blip r:embed="rId9"/>
            <a:stretch/>
          </p:blipFill>
          <p:spPr>
            <a:xfrm>
              <a:off x="3657600" y="38862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 txBox="1"/>
            <p:nvPr/>
          </p:nvSpPr>
          <p:spPr>
            <a:xfrm>
              <a:off x="2895480" y="45720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0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0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8" name=""/>
          <p:cNvGraphicFramePr/>
          <p:nvPr/>
        </p:nvGraphicFramePr>
        <p:xfrm>
          <a:off x="76320" y="2895480"/>
          <a:ext cx="2819160" cy="129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895480"/>
                    <a:ext cx="2819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11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 flipH="1">
            <a:off x="4266720" y="1066680"/>
            <a:ext cx="1752840" cy="3733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1" name=""/>
          <p:cNvGraphicFramePr/>
          <p:nvPr/>
        </p:nvGraphicFramePr>
        <p:xfrm>
          <a:off x="76320" y="2895480"/>
          <a:ext cx="2819160" cy="129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895480"/>
                    <a:ext cx="2819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3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44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6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3886200" y="4191120"/>
            <a:ext cx="365760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951200" y="2046240"/>
          <a:ext cx="51339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046240"/>
                    <a:ext cx="51339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6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7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4" name=""/>
          <p:cNvGraphicFramePr/>
          <p:nvPr/>
        </p:nvGraphicFramePr>
        <p:xfrm>
          <a:off x="0" y="2930400"/>
          <a:ext cx="2743200" cy="126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930400"/>
                    <a:ext cx="274320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6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777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9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V="1">
            <a:off x="4952880" y="1980720"/>
            <a:ext cx="1600200" cy="3581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8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951200" y="2133720"/>
          <a:ext cx="5133960" cy="21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1200" y="2133720"/>
                    <a:ext cx="5133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1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0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8" name=""/>
          <p:cNvGraphicFramePr/>
          <p:nvPr/>
        </p:nvGraphicFramePr>
        <p:xfrm>
          <a:off x="76320" y="3024360"/>
          <a:ext cx="274320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024360"/>
                    <a:ext cx="27432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0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811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 flipV="1">
            <a:off x="480060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d the Slo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6280" y="1457280"/>
          <a:ext cx="3952800" cy="37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457280"/>
                    <a:ext cx="39528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57640" y="1457280"/>
          <a:ext cx="3498840" cy="385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57640" y="1457280"/>
                    <a:ext cx="349884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648320" y="13716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2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827" name=""/>
          <p:cNvGraphicFramePr/>
          <p:nvPr/>
        </p:nvGraphicFramePr>
        <p:xfrm>
          <a:off x="1447920" y="1828800"/>
          <a:ext cx="6119640" cy="313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1828800"/>
                    <a:ext cx="611964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3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1" name=""/>
          <p:cNvGraphicFramePr/>
          <p:nvPr/>
        </p:nvGraphicFramePr>
        <p:xfrm>
          <a:off x="4910040" y="2854440"/>
          <a:ext cx="143028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10040" y="2854440"/>
                    <a:ext cx="1430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76320" y="2786040"/>
          <a:ext cx="2743200" cy="14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86040"/>
                    <a:ext cx="2743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5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5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990720" y="1600200"/>
          <a:ext cx="6119640" cy="363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1600200"/>
                    <a:ext cx="611964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6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0" name=""/>
          <p:cNvGraphicFramePr/>
          <p:nvPr/>
        </p:nvGraphicFramePr>
        <p:xfrm>
          <a:off x="4965840" y="2800440"/>
          <a:ext cx="13208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65840" y="2800440"/>
                    <a:ext cx="13208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76320" y="2562120"/>
          <a:ext cx="2743200" cy="16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62120"/>
                    <a:ext cx="27432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1447920" y="1905120"/>
          <a:ext cx="6038640" cy="29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1905120"/>
                    <a:ext cx="603864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9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9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9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9" name=""/>
          <p:cNvGraphicFramePr/>
          <p:nvPr/>
        </p:nvGraphicFramePr>
        <p:xfrm>
          <a:off x="3203640" y="2800440"/>
          <a:ext cx="48434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2800440"/>
                    <a:ext cx="48434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76320" y="2840040"/>
          <a:ext cx="2743200" cy="135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840040"/>
                    <a:ext cx="274320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905120" y="1752480"/>
          <a:ext cx="5257800" cy="35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1752480"/>
                    <a:ext cx="52578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2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2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8" name=""/>
          <p:cNvGraphicFramePr/>
          <p:nvPr/>
        </p:nvGraphicFramePr>
        <p:xfrm>
          <a:off x="3259080" y="2800440"/>
          <a:ext cx="47340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59080" y="2800440"/>
                    <a:ext cx="4734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76320" y="2336760"/>
          <a:ext cx="2743200" cy="185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36760"/>
                    <a:ext cx="274320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3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3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1905120" y="2027160"/>
          <a:ext cx="5562360" cy="28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2027160"/>
                    <a:ext cx="556236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5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5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7" name=""/>
          <p:cNvGraphicFramePr/>
          <p:nvPr/>
        </p:nvGraphicFramePr>
        <p:xfrm>
          <a:off x="2971800" y="2941560"/>
          <a:ext cx="5410080" cy="123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941560"/>
                    <a:ext cx="54100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76320" y="2786040"/>
          <a:ext cx="2743200" cy="14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86040"/>
                    <a:ext cx="2743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olv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981080"/>
          <a:ext cx="700560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700560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69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97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8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8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9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0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2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2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3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3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4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2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5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5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6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6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9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8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9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6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Graph My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320" y="2286000"/>
          <a:ext cx="2743200" cy="12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286000"/>
                    <a:ext cx="2743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125160" y="1447920"/>
            <a:ext cx="4240800" cy="4114800"/>
            <a:chOff x="3125160" y="1447920"/>
            <a:chExt cx="4240800" cy="4114800"/>
          </a:xfrm>
        </p:grpSpPr>
        <p:graphicFrame>
          <p:nvGraphicFramePr>
            <p:cNvPr id="148" name=""/>
            <p:cNvGraphicFramePr/>
            <p:nvPr/>
          </p:nvGraphicFramePr>
          <p:xfrm>
            <a:off x="4191120" y="1905120"/>
            <a:ext cx="3174840" cy="3657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1905120"/>
                      <a:ext cx="31748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25888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16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5410080" y="1218960"/>
            <a:ext cx="1371600" cy="4343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5720" y="46483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Plot y-intercept (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8600" y="5791320"/>
            <a:ext cx="45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Count off rise over run (3 over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Connect the d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038480" y="449532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172200" y="3428640"/>
            <a:ext cx="533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105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108" name="j0105174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9" name=""/>
          <p:cNvGraphicFramePr/>
          <p:nvPr/>
        </p:nvGraphicFramePr>
        <p:xfrm>
          <a:off x="2249640" y="2124000"/>
          <a:ext cx="4719600" cy="27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9640" y="2124000"/>
                    <a:ext cx="4719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116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12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23" name=""/>
          <p:cNvGraphicFramePr/>
          <p:nvPr/>
        </p:nvGraphicFramePr>
        <p:xfrm>
          <a:off x="3919680" y="2800440"/>
          <a:ext cx="3411360" cy="15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9680" y="2800440"/>
                    <a:ext cx="3411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76320" y="2576520"/>
          <a:ext cx="2743200" cy="16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576520"/>
                    <a:ext cx="27432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44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 – Version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295280"/>
            <a:ext cx="8001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On the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523880"/>
            <a:ext cx="563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6400" y="1447920"/>
            <a:ext cx="4240080" cy="4114800"/>
            <a:chOff x="3506400" y="1447920"/>
            <a:chExt cx="4240080" cy="4114800"/>
          </a:xfrm>
        </p:grpSpPr>
        <p:graphicFrame>
          <p:nvGraphicFramePr>
            <p:cNvPr id="164" name=""/>
            <p:cNvGraphicFramePr/>
            <p:nvPr/>
          </p:nvGraphicFramePr>
          <p:xfrm>
            <a:off x="4572000" y="1905120"/>
            <a:ext cx="3174480" cy="365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905120"/>
                      <a:ext cx="31744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5639400" y="1447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6400" y="35053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V="1">
            <a:off x="4876920" y="1219320"/>
            <a:ext cx="2286000" cy="4876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320" y="1905120"/>
          <a:ext cx="3124080" cy="230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9051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381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4824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48240" y="2247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629400" y="2666880"/>
          <a:ext cx="914400" cy="55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2666880"/>
                    <a:ext cx="9144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58000" y="4102200"/>
          <a:ext cx="73188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410220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724280" y="3352680"/>
          <a:ext cx="7318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24280" y="335268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724280" y="1905120"/>
          <a:ext cx="7318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24280" y="1905120"/>
                    <a:ext cx="731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05520" y="5715000"/>
          <a:ext cx="1676160" cy="479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5520" y="5715000"/>
                    <a:ext cx="1676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1-05T14:42:33Z</dcterms:modified>
  <cp:revision>189</cp:revision>
  <dc:subject/>
  <dc:title>PowerPoint Presentation</dc:title>
</cp:coreProperties>
</file>